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70A-8522-4782-A55D-C7DB61DC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60F-0055-442F-A6C1-5C10367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254-9AC5-47AA-BA9E-C99F3FBA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05F-F797-4886-BEFA-E5998E6B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766-A5A8-426A-9DE6-B8D35711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A52-D417-47F4-927C-0786644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C40-2F79-4978-9AF1-E4C18E72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5D2-B782-498B-BE60-684CA54B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A00-B9D1-4D67-92B5-FEA3C363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C25-527C-4E0F-BDF8-7E56372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749-2051-4DEB-BA3E-E5505AD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515-400E-4FD5-99F0-61DB610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CB1A-CD50-4268-90CB-E41179340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8B4-E206-4C35-ACAF-D0BC0677D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83600" y="3333600"/>
            <a:ext cx="1760400" cy="352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Using the TPACK Framework students will identify: content, pedagogy, and technology in a real school activity. Students will complete the TPACK Framework at the beginning of class. Revisit the process at the end of class and revisit/revise their TPACK Framewo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719280" y="4827600"/>
            <a:ext cx="805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pack-contexts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knowledge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History-Native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gy Knowledge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s work in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ACK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26Z</dcterms:created>
  <dc:creator>sbswan02</dc:creator>
  <dc:description/>
  <dc:language>en-US</dc:language>
  <cp:lastModifiedBy>201g_29</cp:lastModifiedBy>
  <dcterms:modified xsi:type="dcterms:W3CDTF">2010-08-30T22:39:57Z</dcterms:modified>
  <cp:revision>6</cp:revision>
  <dc:subject/>
  <dc:title>TPACK Framework Activity </dc:title>
</cp:coreProperties>
</file>